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3DF7E-8E91-4330-82E9-ED0F9C4081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6433C-2514-4757-BA8A-8C7B06C1A2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EC341-06FF-4AFE-8321-971D876BB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FD56-B22A-484E-BD1C-25336312EA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814C6-4CED-4593-9183-558C095DFC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B2AE6-CE9E-4CA8-865F-97481404C5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0D35A-4060-44DF-BB89-9D62C93A5D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03A6-8E7E-4965-9CB8-D2F110EA05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FA9C4-BC4D-4F05-8FA6-2350E8A571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82AB-DADF-479A-95C7-99830E37CE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3DC3E-FB38-45F0-95B3-D3FACD2DFD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2DDA8-E1D3-4311-8336-FB4A1069BC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8D141-4F2E-4AED-A17B-83BB64892A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DD289-8D01-4E08-9738-B68BDD0181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9AFC3-D5C6-40EE-AA87-6F9B2ABE58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67257-27B9-4FDA-9AC2-5C9AE58F46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A209-A35E-4ABD-BB3C-CAAFF85C57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1A9-6ED0-4A6D-ACF1-A1075CA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0AE-949F-42EB-B2AB-342E6137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D5E-1C5B-4DDF-A25F-E72757EA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9BD-7384-4872-8421-5A9B7CB8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412-FF6D-488D-8099-8697908F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9B1-2532-4C05-B4E3-D8F90AA9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C3F-87B1-431B-BE1E-8917493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48F-4A4E-4BFE-9F04-D914796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4FA-2754-48AE-B00C-D6361D1B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D85-ED5D-407F-84FB-97B7DF1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C1A-5934-46F1-BC2B-4891F78B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82C-5439-4DC0-B225-14A1A78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E597AF-CB83-4110-BBE1-E410286A71C7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258920" y="33336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Нижнеграйворо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б исполнении бюджета Нижнеграйворонского сельсовета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за 2019год  от  27.04.2020 №11а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60856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313056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Нижнеграйворо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068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151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8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917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Нижнеграйворон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Нижнеграйворонского сельсовета Советского района Курской области – 4151,2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9640" y="1773360"/>
          <a:ext cx="8232840" cy="323820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88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 «Развитие культуры муниципального образования «Нинеграйворо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187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Нижнеграйворонский сельсовет Советского района Курской области» Благоустройство населенных пунктов в Нижнеграйворонском сельсовете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9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Развитие муниципальной службы  в муниципальном образовании «Нижнеграйворонский сельсовет» Советского района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Нижнеграйворо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55"/>
          <p:cNvSpPr/>
          <p:nvPr/>
        </p:nvSpPr>
        <p:spPr>
          <a:xfrm>
            <a:off x="613440" y="6383160"/>
            <a:ext cx="842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Нижнеграйворо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Нижнеграйворонского сельсовета Советского района Курской области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0040" y="2071800"/>
          <a:ext cx="8232840" cy="38624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1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Нижнеграйворонского сельсовета Советского района Курской области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0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Развитие и укрепление материально-технической базы муниципального образования «Нижнеграйворонский сельсовет Советского района Курской области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50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Нижнеграйворонского сельсовета Советского район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05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Нижнеграйворон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2019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С. Ишкова– главный бухгалтер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Нижнеграйворон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04, Курская область, Советский район с.Нижняя Грайворон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Нижнеграйворон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53-32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sel_nizhnegrayvor@bk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Бюджет для граждан» познакомит вас  о бюджете Нижнеграйворонского сельсовета Советского района Курской области  на  2019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Нижнеграйворон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Нижнеграйворонского сельсовета Советского района Курской области              на 2019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Microsoft YaHei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51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68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Нижнеграйворонского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9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71760" y="1071720"/>
          <a:ext cx="6816600" cy="429552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307188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48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068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24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4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49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206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187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0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920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804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Нижнеграйворон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ГлавБух</dc:creator>
  <dc:description/>
  <dc:language>en-US</dc:language>
  <cp:lastModifiedBy>ВоробьеваГА</cp:lastModifiedBy>
  <dcterms:modified xsi:type="dcterms:W3CDTF">2021-02-26T10:39:07Z</dcterms:modified>
  <cp:revision>477</cp:revision>
  <dc:subject/>
  <dc:title>Слайд 1</dc:title>
</cp:coreProperties>
</file>